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DBE3-6197-4D34-93F5-287332145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FAA7-5DCD-44A3-9D41-F419FC974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D223-D341-47A7-A73B-67D9F26EB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5820-A10F-4726-81F2-AF2B67346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B329-CEB6-48F9-AB57-DE84BCC92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AEAD-9302-46FC-B799-4B070AD0E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3F54-CE14-4FF6-9907-65824328E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ED9C-194E-4D97-9445-94BCE67D1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E8BB-2199-4CEF-9F1A-C757E93BF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C1E7-A52A-42AA-855B-0FC1E1793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71CC-CA6B-4530-9E96-A9366B7C3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2A91-4D3B-4215-9F19-6371B28D5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723B4-D9E9-4C08-A7E0-EB4FC80E90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iling Poi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 Ian Snyder, Shawn An, and Shela W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ro to Boiling Poi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ate of evaporation increases as liquid is heat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eating causes the particles in a liquid move faster as they absorb the added energ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bjective 14 - When a liquid is heated to a temperature at which particles throughout the liquid have enough kinetic energy to vaporize, the liquid begins to boil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bjective 15 - Boiling Point: The temperature at which the vapor pressure of the liquid is just equal to the external pressure of the liqui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iling Point and Pressure Cha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iling point varies depending on the liqu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iling points decrease at higher altitudes b/c the atmospheric pressure is le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though vapor has the same average kinetic energy as the liquid, it’s potential energy is much high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rmal Boiling Point – The boiling point of a liquid at a pressure of 101.3 kP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828800" y="533412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"/>
              </a:rPr>
              <a:t>The End.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6T16:51:07Z</dcterms:created>
  <dc:creator>14isnyder</dc:creator>
  <dc:description/>
  <dc:language>en-US</dc:language>
  <cp:lastModifiedBy>14isnyder</cp:lastModifiedBy>
  <dcterms:modified xsi:type="dcterms:W3CDTF">2012-04-26T17:32:39Z</dcterms:modified>
  <cp:revision>3</cp:revision>
  <dc:subject/>
  <dc:title>Boiling Point</dc:title>
</cp:coreProperties>
</file>